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17E-B4CF-4801-BC48-A499F82A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E08-0DD1-434B-98D5-777231A8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9BC-D3A0-4842-B8E6-FF23A926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FD4-7805-443A-90DA-A23E3504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8A2C-9BB9-44D3-88F8-C5E5E703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A0BE-EC18-4DD4-A13A-8A9B0870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1111-CEDA-43DF-AA9D-CDC49335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5F51-1C1D-4DE8-849C-AA7A241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8149-C3C5-420F-9BAA-887666DA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C067-46DB-41F4-9522-A3F4295F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8C1F-151D-4AC8-8AE0-B892B09A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B40-054A-4704-A620-5C707190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B970-10C9-4E64-934C-CA66EEF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D4D6-51EA-4B8D-9906-4D69531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6F1A-05E6-4B86-974C-2A3F0E6F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6378-9BAF-403C-9AD1-767468A9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9CE9-B25D-4275-A115-7CB906A4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935-7BE2-4A73-AC46-694FAD79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C75-4FEA-4763-A708-8295950A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1C7-2823-4BAE-886B-414CB420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587-7C81-4588-8EB1-7A3103DD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A22-B658-41D5-A3A6-9430BCC5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13C-F900-4F88-A880-A97AFE6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189-622F-485A-AC73-530D66F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98E-2CD8-4888-888A-C91852704C5C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8263-C300-454B-AD7C-C046A3A12789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cia.gov/library/publications/the-world-factbook/" TargetMode="External"/><Relationship Id="rId3" Type="http://schemas.openxmlformats.org/officeDocument/2006/relationships/hyperlink" Target="http://online.culturegrams.com/" TargetMode="External"/><Relationship Id="rId4" Type="http://schemas.openxmlformats.org/officeDocument/2006/relationships/hyperlink" Target="http://www.ancientcivilizations.co.uk/home_set.htm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t 6:  Southwest and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he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nd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Geography:  the cou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ous: 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:  Kazakh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lthiest:  United Arab Emi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nks:  trade and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Geography: 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dle of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heism: Judaism (Abraham), Christianity (Jesus), Islam (Muhamm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ic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ah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854360"/>
            <a:ext cx="64641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43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hamm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1545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Geography:  Pop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(Istanbul, Karach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rural, % 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ligion:  Islam (Sunni, Sh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rachi, Pakist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59198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Geography: Economic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 (abundance of . . 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(scarcity of . . 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adic he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and 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5665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ks to More Information about SW and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s://www.cia.gov/library/publications/the-world-factboo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3"/>
              </a:rPr>
              <a:t>http://online.culturegram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4"/>
              </a:rPr>
              <a:t>http://www.ancientcivilizations.co.uk/home_se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Features:  SW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s:  Arabian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aus:  Anato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y chimney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:  Arabian, Mediterranean, Black, Red, Dead, Casp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ris-Euphrates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iry Chimne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62071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Features: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:  Aral, Caspian, Ar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du K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2 (Mt. Godwin Aus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008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al Se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08176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:  SW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terran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: 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getation:  SW &amp;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va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rt scr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21:26:21Z</dcterms:created>
  <dc:creator>Educational Technology</dc:creator>
  <dc:description/>
  <dc:language>en-US</dc:language>
  <cp:lastModifiedBy>Educational Technology</cp:lastModifiedBy>
  <dcterms:modified xsi:type="dcterms:W3CDTF">2009-03-31T01:20:27Z</dcterms:modified>
  <cp:revision>14</cp:revision>
  <dc:subject/>
  <dc:title>Unit 6:  Southwest and Central Asia</dc:title>
</cp:coreProperties>
</file>